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ECA6-7F69-4C57-BA0A-98FE9921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0CDF-9BF9-45E0-BDB6-51D02F1B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1B5-688A-4F1E-A1F9-CA9ABB9D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772-F5C9-4187-BA24-3E6F756E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76F-AB92-42B7-A06B-0C58596B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0DBD-D052-410C-B17E-CBD6D17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739-CF3B-4DAC-8CC0-04F44562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802-1394-4AB2-A606-08FF46E5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B02-9B29-47C6-9B80-8DE281C0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0152-B87D-4C9B-8CD3-AAC7546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066-5222-4A21-B6A7-731F070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2E1-DB47-4899-B669-96AD54D5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AF33-765D-4395-9592-CDEF4AD9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363680" y="3906720"/>
            <a:ext cx="28843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Randolf Caldecott was considered by many to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be the best illustrator of children’s books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nthe world. So much so that in the USA, ther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is a prize given every year, the </a:t>
            </a:r>
            <a:r>
              <a:rPr b="0" lang="en-US" sz="700" spc="-1" strike="noStrike" u="sng">
                <a:solidFill>
                  <a:srgbClr val="808080"/>
                </a:solidFill>
                <a:uFillTx/>
                <a:latin typeface="'Palatino Linotype'"/>
              </a:rPr>
              <a:t>Caldecott Medal</a:t>
            </a: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,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for the illustrator who produces what the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judges consider to be the best illustrated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08080"/>
                </a:solidFill>
                <a:latin typeface="'Palatino Linotype'"/>
              </a:rPr>
              <a:t>children’s book of that year.</a:t>
            </a:r>
            <a:r>
              <a:rPr b="0" lang="en-US" sz="700" spc="-1" strike="noStrike">
                <a:solidFill>
                  <a:srgbClr val="808080"/>
                </a:solidFill>
                <a:latin typeface="'Palatino Linotype'"/>
              </a:rPr>
              <a:t>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tempShape.PNG"/>
          <p:cNvPicPr/>
          <p:nvPr/>
        </p:nvPicPr>
        <p:blipFill>
          <a:blip r:embed="rId2"/>
          <a:stretch/>
        </p:blipFill>
        <p:spPr>
          <a:xfrm>
            <a:off x="485640" y="28440"/>
            <a:ext cx="2673360" cy="3211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tempShape.PNG"/>
          <p:cNvPicPr/>
          <p:nvPr/>
        </p:nvPicPr>
        <p:blipFill>
          <a:blip r:embed="rId3"/>
          <a:stretch/>
        </p:blipFill>
        <p:spPr>
          <a:xfrm>
            <a:off x="3660840" y="71280"/>
            <a:ext cx="24987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empShape.PNG"/>
          <p:cNvPicPr/>
          <p:nvPr/>
        </p:nvPicPr>
        <p:blipFill>
          <a:blip r:embed="rId2"/>
          <a:stretch/>
        </p:blipFill>
        <p:spPr>
          <a:xfrm>
            <a:off x="2279520" y="449280"/>
            <a:ext cx="6196320" cy="3338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217440" y="949320"/>
            <a:ext cx="190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e Caldecott Medal is based on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this illustration by Randolf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Caldecott.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92160" y="209376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The illustration on the Caldecott Medal,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which is taken from Caldecott's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illustrations for "The Diverting Story of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John Gilpin," is a perfect example of the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umor, vitality, and sense of movement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found in Caldecott's work. The illustration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shows John Gilpin astride a runaway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horse, accompanied by squawking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geese, braying dogs, and startled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808080"/>
                </a:solidFill>
                <a:latin typeface="'Palatino Linotype'"/>
              </a:rPr>
              <a:t>onlookers.</a:t>
            </a:r>
            <a:r>
              <a:rPr b="0" lang="en-US" sz="600" spc="-1" strike="noStrike">
                <a:solidFill>
                  <a:srgbClr val="808080"/>
                </a:solidFill>
                <a:latin typeface="'Palatino Linotype'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tempShape.PNG"/>
          <p:cNvPicPr/>
          <p:nvPr/>
        </p:nvPicPr>
        <p:blipFill>
          <a:blip r:embed="rId2"/>
          <a:stretch/>
        </p:blipFill>
        <p:spPr>
          <a:xfrm>
            <a:off x="449280" y="449280"/>
            <a:ext cx="4343400" cy="3619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516640" y="808200"/>
            <a:ext cx="212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What do you see on the Caldecott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Medal?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Look at the medal for 60 seconds,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then cover it up.  See how many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elements of the design you can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remember!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 MCPS user</cp:lastModifiedBy>
  <dcterms:modified xsi:type="dcterms:W3CDTF">2012-01-23T23:53:0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